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3FAB-20CF-4078-9ACE-74D5E723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99C8-E545-41A9-BEDE-B82C9893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9618-9B27-4F82-BF48-A5017D05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BA45-D469-4806-B223-8CFFD8BB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F6B3-69BD-4580-A538-AAB386B0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537F-AAB9-46B6-9D9C-51F1ED51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4B12-E29C-447D-B9E8-EC79B39C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AAAD-A9F9-4C46-A103-DCC6B02E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9BA8-983C-4359-95D9-FE80EA78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010C-52AD-4D99-9458-555ECED1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CBDE-8B8E-4712-A5C1-AFDB3F53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671F-6697-4A27-856C-6637DE1E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7665-8967-431F-9BBE-647D5511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1058-CFC0-4E74-BCD3-B1E3B24A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BEA7-7419-4A8A-9011-64CBEFE0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17D9-C4C9-42FC-9906-6036C7F6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45FB-546D-46B5-8BDB-06B51D34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9006-879A-47E2-A9A1-DAD793F6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1ECB-45AE-4F08-8E98-2F98C6A2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796D-2B65-4918-BC65-3FC08A92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7F7B-6DC9-41B1-BAB8-A3B561AC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6175-77F6-4B13-9D6C-0A43FDA7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D525-55F0-441D-A1FC-3B4EA9B6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8237-3414-4E37-8DA0-BC1B4419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AFD8-B2F5-4B62-90E4-66655403763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8DFF-51EB-4773-82D8-F46652E388C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S395 Internship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partment of Natural Resour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ath Kimbal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je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rc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REditMa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dPL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REditVer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REditClassExten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REditConfi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REditToo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RWorkManag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RMapManag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RMapGenera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RMapAutoTas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RRequestManag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ss Modu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21 Class Modu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0,000+ Lines of Co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ass Modules created by RDI to customize the out of the box ArcGis softwa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class modules are maintained by the Status Graphics Unit programme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re ArcGis code is black b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Ma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racle Databa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ains spatial dat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cess to “Test” dat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rder the list of map 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nd Est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neral Est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wnershi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rface Classif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er Est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43000" y="1189080"/>
            <a:ext cx="70866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gorithm Consider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gure out data structure that map types were stored i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sing the map types in the data structur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all map types available for each pla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p types associated with int valu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1 Algorith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le not at end of stor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 to beginning of storag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ok for wanted map typ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indexed map type = wanted map typ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indexed map type to tre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se If at end of stor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anted map type isn’t in stor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rement wanted map typ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dexed map type != wanted map typ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rement index in stor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1 Co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im storageIndex As Long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im wantedMapId As Integer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im storageSize As Integer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im numPlacedNodes As Long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antedMapId = 0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torageIndex = 1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hile numPlacedNodes &lt; v_pRequest.Count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f v_pRequest.Item(storageIndex) = wantedMapId The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'put it in the tree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t v_pNode = v_pTree.Nodes.Add(v_intIndex(2), tvwChild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'v_intIndex(3) = v_pNode.Index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'Set v_pHelper = New MapTypeHelper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'Call v_pHelper.Init(v_pMapType, v_pNode.Index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'Set v_pNode.Tag = v_pHelper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'v_pNode.Sorted = True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'Call v_pHelper.UpdateNode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numPlacedNodes 1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antedMappID 1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torageIndex = 1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lseIf storageIndex = v_pRequest.Count Then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antedMapId 1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lse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torageIndex 1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          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nd If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x error message that occurs when opening ArcMap while not connected to the databas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ror message is confus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ange it to tell user to close out of ArcMap, connect to the database, and reopen ArcMap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ror causes ArcMap to run in infinite loop.  Have to end task ArcMap to stop i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ke system stop when encounters this erro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verview of th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partment of Natural resourc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partment of Natural Resour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vision of Support Serv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nd Records Information Se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tus Graphics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GU programmers - Maintain the ArcGis softwar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8660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ied to find a variable that had a value that caused the proble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fter tracing back through variables, functions and classes it was determined that the code that caused the error was in the Black Box part of the ArcGis cod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ust the Section Supplemental tex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s ArcCatalo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dit html spacing, font, and bolding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rdest P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ecking to see if my changes looked goo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d to learn a few functions of ArcMap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ad to learn MTRS and how to Configure Plot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143000" y="1170000"/>
            <a:ext cx="7112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3 Co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w line  &lt;br&gt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l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&lt;b&gt; &lt;/b&gt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nt &lt;font size = 20&gt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x problem with the http://plats.landrecords.info/ websi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pposed to return maps from LRAPP.MAP_INVENTORY and several other tabl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eck queries for correctnes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066680" y="1230480"/>
            <a:ext cx="703584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n sections of main query for correctnes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 queries returned proper map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as decided that the bug was not with the queries and lied in another departments cod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problem was passed on to another departmen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5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pulate the Load Edit Layers button with the Base Laye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o plans of attack. Info in 3 tabl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 Queries to make one tab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 code that accesses database and makes several queri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14400" y="1170000"/>
            <a:ext cx="7112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T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ridia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31680 sca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wnship/Ran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5840 sca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4800 sca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640 Ac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Quarter Se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400 sca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60 ac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Quarter quarter se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200 sca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80 ac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ok plan of attack number 1, cod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ready some cod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earched connecting to database using ADODB.Conne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earched querying database using ADODB.records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earched using Dictionary.scripting for storing queried dat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an into problem with multiple accesses to database.  Switched over to plan 2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urrently researched tables and ways to query the needed dat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5 Co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Private Sub InitRequestLayerDictionary()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Dim v_ptrConn As ADODB.Connection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Dim v_ptrConn1 As ADODB.Connection                                         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Dim v_ptrRST As ADODB.Recordset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Dim v_ptrRST1 As ADODB.Recordset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Dim v_strSQL As String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Dim v_strBaseSQL As String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Dim v_ptrLayers As LREditMain.lrLayerNames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Dim v_strTestID As String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Dim v_strOLDid As Long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On Error GoTo eh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Set v_ptrConn = New ADODB.Connection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v_ptrConn.ConnectionString = m_strConnectionString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v_ptrConn.Open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Set v_ptrConn1 = New ADODB.Connection       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v_ptrConn1.ConnectionString = m_strConnectionString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v_ptrConn1.Open                                   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v_strSQL = "select * from LRAPP.V_LAYERS_REQUEST"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v_strBaseSQL = "select * from LRAPP.V_BASELAYERS_REQUEST"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Set v_ptrRST = New ADODB.Recordset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v_ptrRST.Open v_strSQL, v_ptrConn, adOpenForwardOnly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Set v_ptrRST1 = New ADODB.Recordset 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v_ptrRST1.Open v_strBaseSQL, v_ptrConn1, adOpenForwardOnly  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5 co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Set m_RequestLayers = New Scripting.Dictionary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Dim previousRequestID As String               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previousRequestID = ""                        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Do Until v_ptrRST.EOF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Set v_ptrLayers = New LREditMain.lrLayerNames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v_strOLDid = v_ptrRST.Fields(0).Valu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v_ptrLayers.RequestId = v_ptrRST.Fields(0).Valu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If Not (previousRequestID = v_ptrLayers.RequestId) The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Do Until v_ptrRST1.EOF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v_ptrLayers.lrPoly = "GIS." &amp; v_ptrRST1.Fields(0).Valu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v_ptrLayers.lrLine = "GIS." &amp; v_ptrRST1.Fields(1).Valu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v_ptrLayers.lrPoint = "GIS." &amp; v_ptrRST1.Fields(2).Valu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m_RequestLayers.Add m_RequestLayers.Count, v_ptrLayers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v_ptrRST1.MoveNext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Loop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previousRequestID = v_ptrLayers.RequestId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End If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Loop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GoTo cleanup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eh: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m_pEventLog.LRLogEvent Err.Description, _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                        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_ModuleName &amp; ".InitRequestLayerDictionary", _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                        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Erl, _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                        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vbLogEventTypeErro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leanup: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If Not v_ptrConn Is Nothing The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If v_ptrConn.State = 1 The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v_ptrConn.Clos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End If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Set v_ptrConn = Nothing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End If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End Sub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x the error with the “Generate Many Status Plats” butt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ppose to traverse my way back through the code to try to find the problem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sual Source Safe Explorer will help me search through the projec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was told this is a “good one” to work 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next on my list of things to d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90720" y="1108080"/>
            <a:ext cx="718812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nguag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QL Plu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sual Basic 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ol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acl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sual stud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cMa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cCatalo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crosoft Visual Source Saf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help files for professionally created software aren’t always that helpfu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n’t be afraid to ask questio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n’t be afraid to ask for help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internet is your frien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ridi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73424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wnship/Ran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552132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828800" y="1163520"/>
            <a:ext cx="569448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arter S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916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 Tiered Syst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racle – Contains Spatial Da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cSde – Manages/Translates Spatial Da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cGis – Uses Translated Spatial Da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R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ArcGI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- Creates, edits, maps, queries, analyzes and publishes geographic inform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ArcMap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- Used for cartography, map analysis, and edit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ArcCatalo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Organizes maps, datasets, and model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ArcObject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One of the largest development Libraries in use toda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heath</cp:lastModifiedBy>
  <dcterms:modified xsi:type="dcterms:W3CDTF">2006-12-02T20:39:08Z</dcterms:modified>
  <cp:revision>81</cp:revision>
  <dc:subject/>
  <dc:title>PowerPoint Presentation</dc:title>
</cp:coreProperties>
</file>